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721CA-AADB-47E1-9415-535E95DA0D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8C250-F9BA-4BEF-B090-CD8F25F52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8224B-986D-43B2-9FE4-63DE5AE9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8E8A3-A6AA-481A-A933-000F3A1630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C9B51-2FEE-4667-932A-0F0821075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5DA2D-FA48-4112-81AB-69E450F4F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A7917-E897-452C-BBC3-8447DA919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29FDC-8ED4-4A25-93D9-3A978DA24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34804-F7F8-4496-B218-CCF53BAB4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D54F4-7B11-4474-A65F-12FB601FA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8CA7D-D845-4581-AB52-DE4855311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1444B-E5BF-4E3E-85F9-FBB3B8CB8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CB9C8-7CCB-4757-9878-85F9FD6DD00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七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章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作用于肾上腺素系统的药物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468360" y="1341360"/>
            <a:ext cx="849636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骤停：一般采用心内注射，同时配合有效的人工呼吸，心脏挤压，纠正酸中毒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：对电击伤所致心脏骤停禁用；但在有心脏除颤器或 利多卡因等除颤条件下仍可应用。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三联针（心室内注射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老 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+NA+IP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现已少用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 ：肾上腺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mg+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阿托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mg+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利多卡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m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兴奋心脏   解除迷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N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心脏抑制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除室颤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1042920" y="1125360"/>
            <a:ext cx="763272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969696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ddb523"/>
                </a:solidFill>
                <a:latin typeface="Times New Roman"/>
                <a:ea typeface="宋体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ddb523"/>
                </a:solidFill>
                <a:latin typeface="Times New Roman"/>
                <a:ea typeface="宋体"/>
              </a:rPr>
              <a:t>过敏性休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过敏性休克首选，心跳无力，血压下降，呼吸困难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肾上腺素：强、快的心脏兴奋作用；血压上升；强大的支气管松弛作用，消除黏膜水肿及减少组胺等过敏介质释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b523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ddb523"/>
                </a:solidFill>
                <a:latin typeface="Times New Roman"/>
                <a:ea typeface="宋体"/>
              </a:rPr>
              <a:t>支气管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强大的支气管平滑肌松弛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支气管黏膜血管收缩，有利于消除黏膜水肿，有利于通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有一定抗过敏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主要用于支气管哮喘急性发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1332000" y="1700280"/>
            <a:ext cx="712764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局麻药配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延长局麻药作用时间；减少吸收中毒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：手指、足趾、阴茎等手术不加肾上腺素，以免影响局部血液循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止血：鼻黏膜及齿龈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的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和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8360" y="1700280"/>
            <a:ext cx="842472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量常出现烦躁、焦虑、心悸、皮肤苍白、出汗等症状，停药后可消失。大剂量可出现血压骤升、搏动性头痛，脑出血和心室纤颤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律失常、高血压、脑动脉硬化、器质性心脏病、甲状腺功能亢进及糖尿病患者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的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0" y="1267920"/>
            <a:ext cx="9036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性质不稳定，遇光易分解，应避光贮存于阴凉处，如氧化变为粉红色或棕色不可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皮下注射及肌注时注意抽回血，以免误入血管；给药后密切观察血压、脉搏、患者面容及情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吸入给药法治疗哮喘，也应注意测量血压、脉搏，以估计药物吸收情况。用药半小时内如哮喘不见缓解，甚或出现气道阻塞、呼吸困难，应及时报告医生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吸入治疗时，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内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次效果不明显者应，可能产生耐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opanine ,DA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11280" y="1915920"/>
            <a:ext cx="73454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因口服在肠和肝破坏，一般采用静脉注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在体内迅速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M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A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破坏，作用时间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易透过血脑屏障，几乎无中枢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600"/>
            <a:ext cx="85881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可激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脏：激动心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作用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弱，一般不易产生心律失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激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，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作用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肾血管、肠系膜及冠状血管扩张，这是由于激动这些部位上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：剂量较大通过激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引起血管收缩作用超过血管舒张作用。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600"/>
            <a:ext cx="85881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低浓度：收缩压上升；舒张压变化不大或稍升高。高浓度：收缩压与舒张压均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肾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激动肾血管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使血管扩张，肾血流增加；另外可抑制肾小管对钠离子再吸收，所以可使尿量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大剂量：激动肾血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引起血管收缩，使肾血流量减少。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600"/>
            <a:ext cx="85881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低浓度：收缩压上升；舒张压变化不大或稍升高。高浓度：收缩压与舒张压均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肾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激动肾血管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使血管扩张，肾血流增加；另外可抑制肾小管对钠离子再吸收，所以可使尿量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大剂量：激动肾血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引起血管收缩，使肾血流量减少。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4360" y="1699920"/>
            <a:ext cx="72007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抗休克：各种休克，如感染中毒性休克、心源性休克及出血性休克等。尤其对伴有心功能降低，尿量减少而血容量已补充的休克较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急性肾功能衰竭：与利尿剂合用疗效较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6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7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8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0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1" name="组合 4"/>
          <p:cNvGrpSpPr/>
          <p:nvPr/>
        </p:nvGrpSpPr>
        <p:grpSpPr>
          <a:xfrm>
            <a:off x="1819440" y="2981160"/>
            <a:ext cx="687240" cy="594000"/>
            <a:chOff x="1819440" y="2981160"/>
            <a:chExt cx="687240" cy="594000"/>
          </a:xfrm>
        </p:grpSpPr>
        <p:sp>
          <p:nvSpPr>
            <p:cNvPr id="112" name="AutoShape 9"/>
            <p:cNvSpPr/>
            <p:nvPr/>
          </p:nvSpPr>
          <p:spPr>
            <a:xfrm>
              <a:off x="1819440" y="2981160"/>
              <a:ext cx="687240" cy="594000"/>
            </a:xfrm>
            <a:prstGeom prst="hexagon">
              <a:avLst>
                <a:gd name="adj" fmla="val 28924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100000">
                  <a:srgbClr val="8ac8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Text Box 10"/>
            <p:cNvSpPr/>
            <p:nvPr/>
          </p:nvSpPr>
          <p:spPr>
            <a:xfrm>
              <a:off x="1954080" y="3063600"/>
              <a:ext cx="353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4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2700360" y="224640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拟肾上腺素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抗肾上腺素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不良反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71280" y="1989000"/>
            <a:ext cx="74358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量一般较轻，如恶心、呕吐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剂量大或静滴过快可引起心律失常，肾血流减少， 肾功能下降等，一旦发生：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及时减量或停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必要时可用酚妥拉明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高血压、动脉硬化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室性心律失常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冠心病及甲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应慎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胞瘤患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94920" y="1125360"/>
            <a:ext cx="84978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严格执行医嘱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溶于全部稀释液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最好先作好穿刺，再从瓶口加入药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应用本品前需先用全血或血浆纠正血容量。治疗时尽量用最小剂量及最短时间，时间越短，预后越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静滴速度宜先慢速开始逐渐增加，在静滴过程中应监测血压、心率、节律、尿量及患者状态。如因滴速过快出现心动过速、头痛等症状，可酌情减慢滴速或停滴。静滴结束后仍需观察，发现水肿等情况应局部进行热敷或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阻断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麻黄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ephedr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78920" y="1406160"/>
            <a:ext cx="8713800" cy="49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基本作用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似，性质稳定，可口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温和而持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兴奋作用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易产生快速耐受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激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，促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释放发挥间接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支气管哮喘：预防或轻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鼻黏膜充血引起的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防止某些低血压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缓解荨麻疹等皮肤黏膜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麻黄碱的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50560" y="1125000"/>
            <a:ext cx="88707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防治局麻药引起的低血压时，用药前后均应监测血压及脉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尽量不在晚上入睡前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在数小时内合并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建议医生减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患者用滴鼻剂（萘甲唑啉）时，需先将鼻涕擤净，清除鼻腔后将头后仰，滴鼻后，避免出现全身反应。因可引起反射性鼻黏膜肿胀，最多连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易引起急性尿潴留，如有排尿困难，应向医生报告及时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拟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08000" y="1341360"/>
          <a:ext cx="8785080" cy="5054760"/>
        </p:xfrm>
        <a:graphic>
          <a:graphicData uri="http://schemas.openxmlformats.org/drawingml/2006/table">
            <a:tbl>
              <a:tblPr/>
              <a:tblGrid>
                <a:gridCol w="863640"/>
                <a:gridCol w="3024000"/>
                <a:gridCol w="2381400"/>
                <a:gridCol w="2516040"/>
              </a:tblGrid>
              <a:tr h="65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、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受体激动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受体激动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受体激动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9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代表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肾上腺素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AD)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去甲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(NA)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异丙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喘息定、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IP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4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激动受体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强   强    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很强 较强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±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强    很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心脏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1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血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管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08" name="组合 17"/>
          <p:cNvGrpSpPr/>
          <p:nvPr/>
        </p:nvGrpSpPr>
        <p:grpSpPr>
          <a:xfrm>
            <a:off x="1031760" y="4159080"/>
            <a:ext cx="7437600" cy="1944000"/>
            <a:chOff x="1031760" y="4159080"/>
            <a:chExt cx="7437600" cy="1944000"/>
          </a:xfrm>
        </p:grpSpPr>
        <p:grpSp>
          <p:nvGrpSpPr>
            <p:cNvPr id="209" name="组合 18"/>
            <p:cNvGrpSpPr/>
            <p:nvPr/>
          </p:nvGrpSpPr>
          <p:grpSpPr>
            <a:xfrm>
              <a:off x="1031760" y="5126400"/>
              <a:ext cx="5150880" cy="976680"/>
              <a:chOff x="1031760" y="5126400"/>
              <a:chExt cx="5150880" cy="976680"/>
            </a:xfrm>
          </p:grpSpPr>
          <p:sp>
            <p:nvSpPr>
              <p:cNvPr id="210" name="Rectangle 34"/>
              <p:cNvSpPr/>
              <p:nvPr/>
            </p:nvSpPr>
            <p:spPr>
              <a:xfrm>
                <a:off x="1031760" y="5126400"/>
                <a:ext cx="2449800" cy="71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激动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宋体"/>
                    <a:ea typeface="宋体"/>
                  </a:rPr>
                  <a:t>1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R: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皮肤、粘膜、内脏血管收缩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激动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宋体"/>
                    <a:ea typeface="宋体"/>
                  </a:rPr>
                  <a:t>2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R: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骨骼肌血管舒张、冠脉舒张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1" name="Rectangle 38"/>
              <p:cNvSpPr/>
              <p:nvPr/>
            </p:nvSpPr>
            <p:spPr>
              <a:xfrm>
                <a:off x="3985920" y="5148720"/>
                <a:ext cx="2196720" cy="95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激动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宋体"/>
                    <a:ea typeface="宋体"/>
                  </a:rPr>
                  <a:t>1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R: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全身血管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(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小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A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、小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V)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收缩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,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冠脉先收缩后舒张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12" name="组合 19"/>
            <p:cNvGrpSpPr/>
            <p:nvPr/>
          </p:nvGrpSpPr>
          <p:grpSpPr>
            <a:xfrm>
              <a:off x="4111560" y="4159080"/>
              <a:ext cx="4357800" cy="1432080"/>
              <a:chOff x="4111560" y="4159080"/>
              <a:chExt cx="4357800" cy="1432080"/>
            </a:xfrm>
          </p:grpSpPr>
          <p:grpSp>
            <p:nvGrpSpPr>
              <p:cNvPr id="213" name="组合 20"/>
              <p:cNvGrpSpPr/>
              <p:nvPr/>
            </p:nvGrpSpPr>
            <p:grpSpPr>
              <a:xfrm>
                <a:off x="4111560" y="4159080"/>
                <a:ext cx="4232160" cy="695880"/>
                <a:chOff x="4111560" y="4159080"/>
                <a:chExt cx="4232160" cy="695880"/>
              </a:xfrm>
            </p:grpSpPr>
            <p:sp>
              <p:nvSpPr>
                <p:cNvPr id="214" name="Rectangle 36"/>
                <p:cNvSpPr/>
                <p:nvPr/>
              </p:nvSpPr>
              <p:spPr>
                <a:xfrm>
                  <a:off x="4111560" y="4159080"/>
                  <a:ext cx="1945440" cy="68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激动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1800" spc="-1" strike="noStrike" baseline="-25000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1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R→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心脏兴奋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(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心率↓）</a:t>
                  </a: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5" name="Rectangle 37"/>
                <p:cNvSpPr/>
                <p:nvPr/>
              </p:nvSpPr>
              <p:spPr>
                <a:xfrm>
                  <a:off x="6434280" y="4174920"/>
                  <a:ext cx="1909440" cy="68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激动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1800" spc="-1" strike="noStrike" baseline="-25000">
                      <a:solidFill>
                        <a:srgbClr val="000000"/>
                      </a:solidFill>
                      <a:latin typeface="宋体"/>
                      <a:ea typeface="宋体"/>
                    </a:rPr>
                    <a:t>1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R→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心脏兴奋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(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传导↑↑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)</a:t>
                  </a: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6" name="Rectangle 39"/>
              <p:cNvSpPr/>
              <p:nvPr/>
            </p:nvSpPr>
            <p:spPr>
              <a:xfrm>
                <a:off x="6308280" y="5185440"/>
                <a:ext cx="21610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激动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宋体"/>
                    <a:ea typeface="宋体"/>
                  </a:rPr>
                  <a:t>2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R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：骨骼肌血管舒张、冠脉舒张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Rectangle 35"/>
          <p:cNvSpPr/>
          <p:nvPr/>
        </p:nvSpPr>
        <p:spPr>
          <a:xfrm>
            <a:off x="1258920" y="4159080"/>
            <a:ext cx="2378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脏兴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拟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50920" y="1413000"/>
          <a:ext cx="8713800" cy="4895640"/>
        </p:xfrm>
        <a:graphic>
          <a:graphicData uri="http://schemas.openxmlformats.org/drawingml/2006/table">
            <a:tbl>
              <a:tblPr/>
              <a:tblGrid>
                <a:gridCol w="576000"/>
                <a:gridCol w="3384720"/>
                <a:gridCol w="2664000"/>
                <a:gridCol w="2089080"/>
              </a:tblGrid>
              <a:tr h="54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    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去甲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异丙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349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                 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对血压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的作用   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治疗量时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: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大剂量时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: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小量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: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大量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: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Rectangle 19"/>
          <p:cNvSpPr/>
          <p:nvPr/>
        </p:nvSpPr>
        <p:spPr>
          <a:xfrm>
            <a:off x="826920" y="2346480"/>
            <a:ext cx="34578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脏兴奋→收缩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≈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 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总外周阻力变化不大→舒张压不变或稍↓故脉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20"/>
          <p:cNvSpPr/>
          <p:nvPr/>
        </p:nvSpPr>
        <p:spPr>
          <a:xfrm>
            <a:off x="826920" y="4506840"/>
            <a:ext cx="33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脏兴奋→收缩压↑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＞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R 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总外周阻力↑→舒张压↑ 故脉压变化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典型变化：先升后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21"/>
          <p:cNvSpPr/>
          <p:nvPr/>
        </p:nvSpPr>
        <p:spPr>
          <a:xfrm>
            <a:off x="4229280" y="2333520"/>
            <a:ext cx="266508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兴奋→收缩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稍弱→外周阻力↑不多→舒张压↑不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故脉压稍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22"/>
          <p:cNvSpPr/>
          <p:nvPr/>
        </p:nvSpPr>
        <p:spPr>
          <a:xfrm>
            <a:off x="4229280" y="4508640"/>
            <a:ext cx="24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兴奋→收缩压↑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强→外周阻力↑↑ →舒张压↑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故脉压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23"/>
          <p:cNvSpPr/>
          <p:nvPr/>
        </p:nvSpPr>
        <p:spPr>
          <a:xfrm>
            <a:off x="6894360" y="234648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→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兴奋→收缩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骨骼肌血管等舒张→总外周阻力↓→舒张压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故脉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拟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258040" cy="52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NA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和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良反应多，可因浓度过高，药液外漏，静滴时间过长等引起局部血管强烈收缩，局部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缺血坏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急性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肾功能衰竭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高血压病、动脉硬化、冠心病、少尿或无尿休克患者禁用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疗监护如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作静脉穿刺时药液勿外溢，以免引起组织坏死。静滴时间不能过长，浓度不应过高，观察给药部位有无水肿、变白等缺血表现，必要时需及时更换注射部位。选用大而弹性好的血管。禁用手部或关节周围的血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4" name="组合 2"/>
          <p:cNvGrpSpPr/>
          <p:nvPr/>
        </p:nvGrpSpPr>
        <p:grpSpPr>
          <a:xfrm>
            <a:off x="395280" y="1125360"/>
            <a:ext cx="5572080" cy="1587600"/>
            <a:chOff x="395280" y="1125360"/>
            <a:chExt cx="5572080" cy="1587600"/>
          </a:xfrm>
        </p:grpSpPr>
        <p:sp>
          <p:nvSpPr>
            <p:cNvPr id="235" name="圆角矩形标注 1"/>
            <p:cNvSpPr/>
            <p:nvPr/>
          </p:nvSpPr>
          <p:spPr>
            <a:xfrm>
              <a:off x="395280" y="1128240"/>
              <a:ext cx="5400720" cy="1584720"/>
            </a:xfrm>
            <a:prstGeom prst="wedgeRoundRectCallout">
              <a:avLst>
                <a:gd name="adj1" fmla="val 73435"/>
                <a:gd name="adj2" fmla="val 9175"/>
                <a:gd name="adj3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36" name="组合 9"/>
            <p:cNvGrpSpPr/>
            <p:nvPr/>
          </p:nvGrpSpPr>
          <p:grpSpPr>
            <a:xfrm>
              <a:off x="423720" y="1125360"/>
              <a:ext cx="5543640" cy="1539720"/>
              <a:chOff x="423720" y="1125360"/>
              <a:chExt cx="5543640" cy="1539720"/>
            </a:xfrm>
          </p:grpSpPr>
          <p:sp>
            <p:nvSpPr>
              <p:cNvPr id="237" name="Text Box 2"/>
              <p:cNvSpPr/>
              <p:nvPr/>
            </p:nvSpPr>
            <p:spPr>
              <a:xfrm>
                <a:off x="423720" y="1707840"/>
                <a:ext cx="877680" cy="503280"/>
              </a:xfrm>
              <a:prstGeom prst="rect">
                <a:avLst/>
              </a:prstGeom>
              <a:noFill/>
              <a:ln w="9360">
                <a:solidFill>
                  <a:srgbClr val="8ac8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840" rIns="60840" tIns="30600" bIns="306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11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楷体_GB2312"/>
                    <a:ea typeface="楷体_GB2312"/>
                  </a:rPr>
                  <a:t>处理</a:t>
                </a:r>
                <a:r>
                  <a:rPr b="1" lang="zh-CN" sz="2900" spc="-1" strike="noStrike">
                    <a:solidFill>
                      <a:srgbClr val="ffffff"/>
                    </a:solidFill>
                    <a:latin typeface="楷体_GB2312"/>
                    <a:ea typeface="楷体_GB2312"/>
                  </a:rPr>
                  <a:t>：</a:t>
                </a:r>
                <a:endParaRPr b="0" lang="en-US" sz="29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8" name="AutoShape 3"/>
              <p:cNvSpPr/>
              <p:nvPr/>
            </p:nvSpPr>
            <p:spPr>
              <a:xfrm>
                <a:off x="1142640" y="1461600"/>
                <a:ext cx="131760" cy="1005840"/>
              </a:xfrm>
              <a:custGeom>
                <a:avLst/>
                <a:gdLst>
                  <a:gd name="textAreaLeft" fmla="*/ 84240 w 131760"/>
                  <a:gd name="textAreaRight" fmla="*/ 132120 w 131760"/>
                  <a:gd name="textAreaTop" fmla="*/ 35640 h 1005840"/>
                  <a:gd name="textAreaBottom" fmla="*/ 970200 h 1005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1228"/>
                      <a:pt x="10800" y="2456"/>
                    </a:cubicBezTo>
                    <a:lnTo>
                      <a:pt x="10800" y="8344"/>
                    </a:lnTo>
                    <a:cubicBezTo>
                      <a:pt x="10800" y="9572"/>
                      <a:pt x="5400" y="10800"/>
                      <a:pt x="0" y="10800"/>
                    </a:cubicBezTo>
                    <a:cubicBezTo>
                      <a:pt x="5400" y="10800"/>
                      <a:pt x="10800" y="12028"/>
                      <a:pt x="10800" y="13256"/>
                    </a:cubicBezTo>
                    <a:lnTo>
                      <a:pt x="10800" y="19144"/>
                    </a:lnTo>
                    <a:cubicBezTo>
                      <a:pt x="10800" y="20372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9" name="Text Box 4"/>
              <p:cNvSpPr/>
              <p:nvPr/>
            </p:nvSpPr>
            <p:spPr>
              <a:xfrm>
                <a:off x="1208880" y="1125360"/>
                <a:ext cx="4758480" cy="15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840" rIns="60840" tIns="30600" bIns="306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(1)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更换注射部位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(2)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局部热敷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(3)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普鲁卡因或酚妥拉明浸润注射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240" name="组合 4"/>
          <p:cNvGrpSpPr/>
          <p:nvPr/>
        </p:nvGrpSpPr>
        <p:grpSpPr>
          <a:xfrm>
            <a:off x="1512720" y="3429000"/>
            <a:ext cx="3490920" cy="1440000"/>
            <a:chOff x="1512720" y="3429000"/>
            <a:chExt cx="3490920" cy="1440000"/>
          </a:xfrm>
        </p:grpSpPr>
        <p:sp>
          <p:nvSpPr>
            <p:cNvPr id="241" name="圆角矩形标注 13"/>
            <p:cNvSpPr/>
            <p:nvPr/>
          </p:nvSpPr>
          <p:spPr>
            <a:xfrm>
              <a:off x="1512720" y="3429000"/>
              <a:ext cx="3490920" cy="1440000"/>
            </a:xfrm>
            <a:prstGeom prst="wedgeRoundRectCallout">
              <a:avLst>
                <a:gd name="adj1" fmla="val -26310"/>
                <a:gd name="adj2" fmla="val -87666"/>
                <a:gd name="adj3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Text Box 7"/>
            <p:cNvSpPr/>
            <p:nvPr/>
          </p:nvSpPr>
          <p:spPr>
            <a:xfrm>
              <a:off x="1828440" y="3733560"/>
              <a:ext cx="2887920" cy="98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30600" bIns="306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记录尿量</a:t>
              </a:r>
              <a:r>
                <a:rPr b="1" lang="en-US" sz="24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&gt;25ml/h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应用甘露醇等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AutoShape 3"/>
            <p:cNvSpPr/>
            <p:nvPr/>
          </p:nvSpPr>
          <p:spPr>
            <a:xfrm>
              <a:off x="1725120" y="3762360"/>
              <a:ext cx="96840" cy="817560"/>
            </a:xfrm>
            <a:custGeom>
              <a:avLst/>
              <a:gdLst>
                <a:gd name="textAreaLeft" fmla="*/ 61920 w 96840"/>
                <a:gd name="textAreaRight" fmla="*/ 97200 w 96840"/>
                <a:gd name="textAreaTop" fmla="*/ 17640 h 817560"/>
                <a:gd name="textAreaBottom" fmla="*/ 799920 h 8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755"/>
                    <a:pt x="10800" y="1510"/>
                  </a:cubicBezTo>
                  <a:lnTo>
                    <a:pt x="10800" y="9290"/>
                  </a:lnTo>
                  <a:cubicBezTo>
                    <a:pt x="10800" y="10045"/>
                    <a:pt x="5400" y="10800"/>
                    <a:pt x="0" y="10800"/>
                  </a:cubicBezTo>
                  <a:cubicBezTo>
                    <a:pt x="5400" y="10800"/>
                    <a:pt x="10800" y="11555"/>
                    <a:pt x="10800" y="12310"/>
                  </a:cubicBezTo>
                  <a:lnTo>
                    <a:pt x="10800" y="20090"/>
                  </a:lnTo>
                  <a:cubicBezTo>
                    <a:pt x="10800" y="20845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NA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08000" y="1125360"/>
            <a:ext cx="885672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严格控制点滴速度，以收缩压维持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k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为宜。约每分钟滴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μ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用药过程中，监测血压及尿量、末梢循环状态（皮肤温度、颜色，特别是耳轮、嘴唇、甲床等的色泽），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ml/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，向医生报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每隔一小时观察一次注射部位，出现局部水肿、皮肤苍白应立即热敷，并酌情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剂酚妥拉明对抗。静滴结束后，注意观察突然停药引起的血压下降。本品为无色液体，一旦出现颜色就不宜使用。宜单独使用，与多种药物有配伍禁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SO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的不良反应和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药常引起心悸、头痛、头晕。对哮喘缺氧患者用量过大或过于频繁，更易引起心律失常，诱发心绞痛。长期反复应用易产生耐受性。哮喘患者长期自行滥用本品可引起猝死。冠心病、心肌炎及甲亢患者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疗监护如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本品起效快、作用强、持续时间长，用药后应密切注视心率，以保持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以下为宜，以免引起室颤。可通过调整滴速控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11280" y="1196640"/>
            <a:ext cx="8137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肾上腺素、去甲肾上腺素、异丙肾上腺素、多巴胺、酚妥拉明和普萘洛尔的药理作用、作用机制、临床应用、不良反应和药疗监护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肾上腺素受体作用药物分类和各类代表药的作用特点、临床应用、不良反应和药疗监护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间羟胺、多巴酚丁胺、酚苄明和美托洛尔的作用特点、临床应用及不良反应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SO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24000" y="1125000"/>
            <a:ext cx="8610480" cy="522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对哮喘患者自用气雾剂及舌下含片者，应嘱患者按医嘱规定的用药次数及剂量，擅自增大剂量可致室颤及猝死。雾化器喷后立即嗽口，以免对口腔及喉的刺激。如由舌下含服，应告诉患者将药放于舌下后任其自行溶化、吸收，不可吮吸，不要把唾液咽下，否则可引起上腹部疼痛，待药物完全吸收后要漱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反复应用，可对本类药物中扩张支气管作用的药物产生交叉耐受性，用药效果不佳。应建议医生更换其它平喘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激动药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04920" y="1268280"/>
            <a:ext cx="861048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间羟胺（阿拉明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特点：激动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 ＜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促进神经末梢释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作用缓慢、温和、持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床应用：是临床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代用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去氧肾上腺素（苯肾上腺素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特点：作用与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似但收缩肾血管作用 ＞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激动瞳孔开大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快速短效扩大瞳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床应用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阵发性室上性心动过速或药物致低血压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扩大瞳孔（作用快、弱、短、不升眼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β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激动药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酚丁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性激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兴奋心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率影响小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用于心肌梗塞并心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难治性心衰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伴房颤者及梗阻型肥厚性心肌病禁用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【药疗监护须知】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给药期间应监测血压及心电图。血压明显波动或心率过快应减慢滴速，及时报告医生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本药不宜与碱性药物配伍应用，与催产素合用可致血压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64680" y="13298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62" name="组合 4"/>
          <p:cNvGrpSpPr/>
          <p:nvPr/>
        </p:nvGrpSpPr>
        <p:grpSpPr>
          <a:xfrm>
            <a:off x="93960" y="2097000"/>
            <a:ext cx="9535320" cy="4025880"/>
            <a:chOff x="93960" y="2097000"/>
            <a:chExt cx="9535320" cy="4025880"/>
          </a:xfrm>
        </p:grpSpPr>
        <p:grpSp>
          <p:nvGrpSpPr>
            <p:cNvPr id="263" name="组合 129"/>
            <p:cNvGrpSpPr/>
            <p:nvPr/>
          </p:nvGrpSpPr>
          <p:grpSpPr>
            <a:xfrm>
              <a:off x="93960" y="2097000"/>
              <a:ext cx="9535320" cy="4025880"/>
              <a:chOff x="93960" y="2097000"/>
              <a:chExt cx="9535320" cy="4025880"/>
            </a:xfrm>
          </p:grpSpPr>
          <p:sp>
            <p:nvSpPr>
              <p:cNvPr id="264" name="AutoShape 125"/>
              <p:cNvSpPr/>
              <p:nvPr/>
            </p:nvSpPr>
            <p:spPr>
              <a:xfrm>
                <a:off x="698040" y="2940480"/>
                <a:ext cx="213120" cy="2403720"/>
              </a:xfrm>
              <a:custGeom>
                <a:avLst/>
                <a:gdLst>
                  <a:gd name="textAreaLeft" fmla="*/ 136080 w 213120"/>
                  <a:gd name="textAreaRight" fmla="*/ 213480 w 213120"/>
                  <a:gd name="textAreaTop" fmla="*/ 52200 h 2403720"/>
                  <a:gd name="textAreaBottom" fmla="*/ 2351520 h 2403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754"/>
                      <a:pt x="10800" y="1507"/>
                    </a:cubicBezTo>
                    <a:lnTo>
                      <a:pt x="10800" y="9293"/>
                    </a:lnTo>
                    <a:cubicBezTo>
                      <a:pt x="10800" y="10047"/>
                      <a:pt x="5400" y="10800"/>
                      <a:pt x="0" y="10800"/>
                    </a:cubicBezTo>
                    <a:cubicBezTo>
                      <a:pt x="5400" y="10800"/>
                      <a:pt x="10800" y="11554"/>
                      <a:pt x="10800" y="12307"/>
                    </a:cubicBezTo>
                    <a:lnTo>
                      <a:pt x="10800" y="20093"/>
                    </a:lnTo>
                    <a:cubicBezTo>
                      <a:pt x="10800" y="20847"/>
                      <a:pt x="16200" y="21600"/>
                      <a:pt x="21600" y="21600"/>
                    </a:cubicBezTo>
                  </a:path>
                </a:pathLst>
              </a:custGeom>
              <a:noFill/>
              <a:ln w="47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265" name="组合 131"/>
              <p:cNvGrpSpPr/>
              <p:nvPr/>
            </p:nvGrpSpPr>
            <p:grpSpPr>
              <a:xfrm>
                <a:off x="93960" y="2097000"/>
                <a:ext cx="9535320" cy="4025880"/>
                <a:chOff x="93960" y="2097000"/>
                <a:chExt cx="9535320" cy="4025880"/>
              </a:xfrm>
            </p:grpSpPr>
            <p:grpSp>
              <p:nvGrpSpPr>
                <p:cNvPr id="266" name="组合 132"/>
                <p:cNvGrpSpPr/>
                <p:nvPr/>
              </p:nvGrpSpPr>
              <p:grpSpPr>
                <a:xfrm>
                  <a:off x="809280" y="2097000"/>
                  <a:ext cx="8820000" cy="4021560"/>
                  <a:chOff x="809280" y="2097000"/>
                  <a:chExt cx="8820000" cy="4021560"/>
                </a:xfrm>
              </p:grpSpPr>
              <p:grpSp>
                <p:nvGrpSpPr>
                  <p:cNvPr id="267" name="Group 18"/>
                  <p:cNvGrpSpPr/>
                  <p:nvPr/>
                </p:nvGrpSpPr>
                <p:grpSpPr>
                  <a:xfrm>
                    <a:off x="809280" y="4587840"/>
                    <a:ext cx="8820000" cy="1530720"/>
                    <a:chOff x="809280" y="4587840"/>
                    <a:chExt cx="8820000" cy="1530720"/>
                  </a:xfrm>
                </p:grpSpPr>
                <p:sp>
                  <p:nvSpPr>
                    <p:cNvPr id="268" name="Text Box 6"/>
                    <p:cNvSpPr/>
                    <p:nvPr/>
                  </p:nvSpPr>
                  <p:spPr>
                    <a:xfrm>
                      <a:off x="4709520" y="4587840"/>
                      <a:ext cx="491976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宋体"/>
                          <a:ea typeface="宋体"/>
                        </a:rPr>
                        <a:t>阿替洛尔、美托洛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69" name="Group 17"/>
                    <p:cNvGrpSpPr/>
                    <p:nvPr/>
                  </p:nvGrpSpPr>
                  <p:grpSpPr>
                    <a:xfrm>
                      <a:off x="809280" y="4627800"/>
                      <a:ext cx="4184280" cy="1490760"/>
                      <a:chOff x="809280" y="4627800"/>
                      <a:chExt cx="4184280" cy="1490760"/>
                    </a:xfrm>
                  </p:grpSpPr>
                  <p:grpSp>
                    <p:nvGrpSpPr>
                      <p:cNvPr id="270" name="Group 16"/>
                      <p:cNvGrpSpPr/>
                      <p:nvPr/>
                    </p:nvGrpSpPr>
                    <p:grpSpPr>
                      <a:xfrm>
                        <a:off x="2850120" y="4627800"/>
                        <a:ext cx="2143440" cy="1490760"/>
                        <a:chOff x="2850120" y="4627800"/>
                        <a:chExt cx="2143440" cy="1490760"/>
                      </a:xfrm>
                    </p:grpSpPr>
                    <p:sp>
                      <p:nvSpPr>
                        <p:cNvPr id="271" name="AutoShape 8"/>
                        <p:cNvSpPr/>
                        <p:nvPr/>
                      </p:nvSpPr>
                      <p:spPr>
                        <a:xfrm>
                          <a:off x="2850120" y="4627800"/>
                          <a:ext cx="43200" cy="1490760"/>
                        </a:xfrm>
                        <a:custGeom>
                          <a:avLst/>
                          <a:gdLst>
                            <a:gd name="textAreaLeft" fmla="*/ 12600 w 43200"/>
                            <a:gd name="textAreaRight" fmla="*/ 43560 w 43200"/>
                            <a:gd name="textAreaTop" fmla="*/ 27720 h 1490760"/>
                            <a:gd name="textAreaBottom" fmla="*/ 1463040 h 149076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21600" y="0"/>
                              </a:moveTo>
                              <a:cubicBezTo>
                                <a:pt x="10800" y="0"/>
                                <a:pt x="0" y="405"/>
                                <a:pt x="0" y="810"/>
                              </a:cubicBezTo>
                              <a:lnTo>
                                <a:pt x="0" y="20790"/>
                              </a:lnTo>
                              <a:cubicBezTo>
                                <a:pt x="0" y="21195"/>
                                <a:pt x="10800" y="21600"/>
                                <a:pt x="21600" y="21600"/>
                              </a:cubicBezTo>
                            </a:path>
                          </a:pathLst>
                        </a:custGeom>
                        <a:noFill/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2" name="Text Box 9"/>
                        <p:cNvSpPr/>
                        <p:nvPr/>
                      </p:nvSpPr>
                      <p:spPr>
                        <a:xfrm>
                          <a:off x="2951280" y="4649040"/>
                          <a:ext cx="2042280" cy="5796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749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Symbol"/>
                              <a:ea typeface="Symbol"/>
                            </a:rPr>
                            <a:t></a:t>
                          </a: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Arial"/>
                              <a:ea typeface="宋体"/>
                            </a:rPr>
                            <a:t> </a:t>
                          </a:r>
                          <a:r>
                            <a:rPr b="0" lang="en-US" sz="2800" spc="-1" strike="noStrike" baseline="-25000">
                              <a:solidFill>
                                <a:srgbClr val="000000"/>
                              </a:solidFill>
                              <a:latin typeface="Arial"/>
                              <a:ea typeface="宋体"/>
                            </a:rPr>
                            <a:t>1</a:t>
                          </a:r>
                          <a:r>
                            <a:rPr b="1" lang="zh-CN" sz="2800" spc="-1" strike="noStrike">
                              <a:solidFill>
                                <a:srgbClr val="000808"/>
                              </a:solidFill>
                              <a:latin typeface="宋体"/>
                              <a:ea typeface="宋体"/>
                            </a:rPr>
                            <a:t>阻断药：</a:t>
                          </a:r>
                          <a:endParaRPr b="0" lang="en-US" sz="2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73" name="Text Box 10"/>
                      <p:cNvSpPr/>
                      <p:nvPr/>
                    </p:nvSpPr>
                    <p:spPr>
                      <a:xfrm>
                        <a:off x="809280" y="4822920"/>
                        <a:ext cx="209304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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-R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阻断药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 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74" name="组合 137"/>
                  <p:cNvGrpSpPr/>
                  <p:nvPr/>
                </p:nvGrpSpPr>
                <p:grpSpPr>
                  <a:xfrm>
                    <a:off x="910800" y="2097000"/>
                    <a:ext cx="8460000" cy="1995120"/>
                    <a:chOff x="910800" y="2097000"/>
                    <a:chExt cx="8460000" cy="1995120"/>
                  </a:xfrm>
                </p:grpSpPr>
                <p:grpSp>
                  <p:nvGrpSpPr>
                    <p:cNvPr id="275" name="组合 138"/>
                    <p:cNvGrpSpPr/>
                    <p:nvPr/>
                  </p:nvGrpSpPr>
                  <p:grpSpPr>
                    <a:xfrm>
                      <a:off x="2984040" y="2097000"/>
                      <a:ext cx="6386760" cy="1995120"/>
                      <a:chOff x="2984040" y="2097000"/>
                      <a:chExt cx="6386760" cy="1995120"/>
                    </a:xfrm>
                  </p:grpSpPr>
                  <p:sp>
                    <p:nvSpPr>
                      <p:cNvPr id="276" name="Text Box 3"/>
                      <p:cNvSpPr/>
                      <p:nvPr/>
                    </p:nvSpPr>
                    <p:spPr>
                      <a:xfrm>
                        <a:off x="2984040" y="2097000"/>
                        <a:ext cx="6386760" cy="1995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1</a:t>
                        </a:r>
                        <a:r>
                          <a:rPr b="1" lang="zh-CN" sz="2800" spc="-1" strike="noStrike">
                            <a:solidFill>
                              <a:srgbClr val="000808"/>
                            </a:solidFill>
                            <a:latin typeface="宋体"/>
                            <a:ea typeface="宋体"/>
                          </a:rPr>
                          <a:t>阻断药：哌唑嗪，为降压药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2</a:t>
                        </a:r>
                        <a:r>
                          <a:rPr b="1" lang="zh-CN" sz="2800" spc="-1" strike="noStrike">
                            <a:solidFill>
                              <a:srgbClr val="000808"/>
                            </a:solidFill>
                            <a:latin typeface="宋体"/>
                            <a:ea typeface="宋体"/>
                          </a:rPr>
                          <a:t>阻断药：育亨宾，为科研工具药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1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、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2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808"/>
                            </a:solidFill>
                            <a:latin typeface="宋体"/>
                            <a:ea typeface="宋体"/>
                          </a:rPr>
                          <a:t>阻断药：酚妥拉明、酚苄明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7" name="AutoShape 5"/>
                      <p:cNvSpPr/>
                      <p:nvPr/>
                    </p:nvSpPr>
                    <p:spPr>
                      <a:xfrm>
                        <a:off x="2986200" y="2134080"/>
                        <a:ext cx="75960" cy="1583640"/>
                      </a:xfrm>
                      <a:custGeom>
                        <a:avLst/>
                        <a:gdLst>
                          <a:gd name="textAreaLeft" fmla="*/ 22320 w 75960"/>
                          <a:gd name="textAreaRight" fmla="*/ 76320 w 75960"/>
                          <a:gd name="textAreaTop" fmla="*/ 102600 h 1583640"/>
                          <a:gd name="textAreaBottom" fmla="*/ 1481040 h 158364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0800" y="0"/>
                              <a:pt x="0" y="1401"/>
                              <a:pt x="0" y="2801"/>
                            </a:cubicBezTo>
                            <a:lnTo>
                              <a:pt x="0" y="18799"/>
                            </a:lnTo>
                            <a:cubicBezTo>
                              <a:pt x="0" y="20200"/>
                              <a:pt x="10800" y="21600"/>
                              <a:pt x="21600" y="21600"/>
                            </a:cubicBezTo>
                          </a:path>
                        </a:pathLst>
                      </a:custGeom>
                      <a:noFill/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78" name="Text Box 10"/>
                    <p:cNvSpPr/>
                    <p:nvPr/>
                  </p:nvSpPr>
                  <p:spPr>
                    <a:xfrm>
                      <a:off x="910800" y="2743200"/>
                      <a:ext cx="207324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R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阻断药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79" name="TextBox 133"/>
                <p:cNvSpPr/>
                <p:nvPr/>
              </p:nvSpPr>
              <p:spPr>
                <a:xfrm>
                  <a:off x="93960" y="2940480"/>
                  <a:ext cx="606960" cy="31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抗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肾上腺素药</a:t>
                  </a:r>
                  <a:endParaRPr b="0" lang="en-US" sz="2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0" name="Text Box 10"/>
            <p:cNvSpPr/>
            <p:nvPr/>
          </p:nvSpPr>
          <p:spPr>
            <a:xfrm>
              <a:off x="2872440" y="5391000"/>
              <a:ext cx="619272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Arial"/>
                  <a:ea typeface="宋体"/>
                </a:rPr>
                <a:t>、</a:t>
              </a:r>
              <a:r>
                <a:rPr b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en-US" sz="2800" spc="-1" strike="noStrike" baseline="-30000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1" lang="zh-CN" sz="2800" spc="-1" strike="noStrike">
                  <a:solidFill>
                    <a:srgbClr val="000808"/>
                  </a:solidFill>
                  <a:latin typeface="宋体"/>
                  <a:ea typeface="宋体"/>
                </a:rPr>
                <a:t>阻断药：普萘洛尔、纳多洛尔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81" name="Text Box 10"/>
          <p:cNvSpPr/>
          <p:nvPr/>
        </p:nvSpPr>
        <p:spPr>
          <a:xfrm>
            <a:off x="933480" y="3929040"/>
            <a:ext cx="464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-R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阻断药：拉贝洛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26920" y="1557000"/>
            <a:ext cx="763272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酚妥拉明生物利用度低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维持时间短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 ，肌肉注射维持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00808"/>
                </a:solidFill>
                <a:latin typeface="Verdana"/>
              </a:rPr>
              <a:t>~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50min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酚苄明为人工合成品，口服吸收差；因剌激性强，不作皮下和肌肉注射，常采用缓慢静脉注射给药。静脉注射后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1h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达高峰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808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受体结合比较牢固，作用强大，持久，一次用药可维持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000808"/>
                </a:solidFill>
                <a:latin typeface="Verdana"/>
              </a:rPr>
              <a:t>~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4d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611280" y="1844640"/>
            <a:ext cx="77724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心血管的作用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机理：竞争性的阻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扩张血管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88" name="组合 6"/>
          <p:cNvGrpSpPr/>
          <p:nvPr/>
        </p:nvGrpSpPr>
        <p:grpSpPr>
          <a:xfrm>
            <a:off x="611280" y="4346640"/>
            <a:ext cx="7467480" cy="1340280"/>
            <a:chOff x="611280" y="4346640"/>
            <a:chExt cx="7467480" cy="1340280"/>
          </a:xfrm>
        </p:grpSpPr>
        <p:grpSp>
          <p:nvGrpSpPr>
            <p:cNvPr id="289" name="组合 7"/>
            <p:cNvGrpSpPr/>
            <p:nvPr/>
          </p:nvGrpSpPr>
          <p:grpSpPr>
            <a:xfrm>
              <a:off x="611280" y="4346640"/>
              <a:ext cx="6172200" cy="1340280"/>
              <a:chOff x="611280" y="4346640"/>
              <a:chExt cx="6172200" cy="1340280"/>
            </a:xfrm>
          </p:grpSpPr>
          <p:grpSp>
            <p:nvGrpSpPr>
              <p:cNvPr id="290" name="组合 10"/>
              <p:cNvGrpSpPr/>
              <p:nvPr/>
            </p:nvGrpSpPr>
            <p:grpSpPr>
              <a:xfrm>
                <a:off x="611280" y="4346640"/>
                <a:ext cx="2971800" cy="1340280"/>
                <a:chOff x="611280" y="4346640"/>
                <a:chExt cx="2971800" cy="1340280"/>
              </a:xfrm>
            </p:grpSpPr>
            <p:sp>
              <p:nvSpPr>
                <p:cNvPr id="291" name="Text Box 5"/>
                <p:cNvSpPr/>
                <p:nvPr/>
              </p:nvSpPr>
              <p:spPr>
                <a:xfrm>
                  <a:off x="611280" y="5105520"/>
                  <a:ext cx="29718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 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直接扩张血管</a:t>
                  </a:r>
                  <a:endParaRPr b="0" lang="en-US" sz="2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92" name="组合 14"/>
                <p:cNvGrpSpPr/>
                <p:nvPr/>
              </p:nvGrpSpPr>
              <p:grpSpPr>
                <a:xfrm>
                  <a:off x="749520" y="4346640"/>
                  <a:ext cx="2819520" cy="1216080"/>
                  <a:chOff x="749520" y="4346640"/>
                  <a:chExt cx="2819520" cy="1216080"/>
                </a:xfrm>
              </p:grpSpPr>
              <p:sp>
                <p:nvSpPr>
                  <p:cNvPr id="293" name="Text Box 4"/>
                  <p:cNvSpPr/>
                  <p:nvPr/>
                </p:nvSpPr>
                <p:spPr>
                  <a:xfrm>
                    <a:off x="749520" y="4346640"/>
                    <a:ext cx="281952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阻滞</a:t>
                    </a: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α</a:t>
                    </a:r>
                    <a:r>
                      <a:rPr b="1" lang="en-US" sz="2800" spc="-1" strike="noStrike" baseline="-25000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1</a:t>
                    </a:r>
                    <a:r>
                      <a:rPr b="1" lang="zh-CN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受体</a:t>
                    </a:r>
                    <a:endParaRPr b="0" lang="en-US" sz="2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Line 6"/>
                  <p:cNvSpPr/>
                  <p:nvPr/>
                </p:nvSpPr>
                <p:spPr>
                  <a:xfrm>
                    <a:off x="3430800" y="4800600"/>
                    <a:ext cx="0" cy="762120"/>
                  </a:xfrm>
                  <a:prstGeom prst="line">
                    <a:avLst/>
                  </a:prstGeom>
                  <a:ln cap="sq"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95" name="Line 7"/>
              <p:cNvSpPr/>
              <p:nvPr/>
            </p:nvSpPr>
            <p:spPr>
              <a:xfrm>
                <a:off x="3430800" y="5181480"/>
                <a:ext cx="6094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6" name="Text Box 8"/>
              <p:cNvSpPr/>
              <p:nvPr/>
            </p:nvSpPr>
            <p:spPr>
              <a:xfrm>
                <a:off x="4116600" y="4876920"/>
                <a:ext cx="266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外周阻力降低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7" name="Line 9"/>
            <p:cNvSpPr/>
            <p:nvPr/>
          </p:nvSpPr>
          <p:spPr>
            <a:xfrm>
              <a:off x="6631200" y="5181480"/>
              <a:ext cx="4572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Text Box 10"/>
            <p:cNvSpPr/>
            <p:nvPr/>
          </p:nvSpPr>
          <p:spPr>
            <a:xfrm>
              <a:off x="7164360" y="487692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Bp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99" name="Line 11"/>
          <p:cNvSpPr/>
          <p:nvPr/>
        </p:nvSpPr>
        <p:spPr>
          <a:xfrm>
            <a:off x="7885080" y="4952880"/>
            <a:ext cx="0" cy="45720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2" name="组合 4"/>
          <p:cNvGrpSpPr/>
          <p:nvPr/>
        </p:nvGrpSpPr>
        <p:grpSpPr>
          <a:xfrm>
            <a:off x="611280" y="1547640"/>
            <a:ext cx="8084880" cy="2604600"/>
            <a:chOff x="611280" y="1547640"/>
            <a:chExt cx="8084880" cy="2604600"/>
          </a:xfrm>
        </p:grpSpPr>
        <p:sp>
          <p:nvSpPr>
            <p:cNvPr id="303" name="Text Box 17"/>
            <p:cNvSpPr/>
            <p:nvPr/>
          </p:nvSpPr>
          <p:spPr>
            <a:xfrm>
              <a:off x="5148360" y="3572640"/>
              <a:ext cx="3344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兴奋心脏的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β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宋体"/>
                  <a:ea typeface="宋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受体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04" name="组合 6"/>
            <p:cNvGrpSpPr/>
            <p:nvPr/>
          </p:nvGrpSpPr>
          <p:grpSpPr>
            <a:xfrm>
              <a:off x="611280" y="1547640"/>
              <a:ext cx="8084880" cy="2135520"/>
              <a:chOff x="611280" y="1547640"/>
              <a:chExt cx="8084880" cy="2135520"/>
            </a:xfrm>
          </p:grpSpPr>
          <p:grpSp>
            <p:nvGrpSpPr>
              <p:cNvPr id="305" name="组合 7"/>
              <p:cNvGrpSpPr/>
              <p:nvPr/>
            </p:nvGrpSpPr>
            <p:grpSpPr>
              <a:xfrm>
                <a:off x="611280" y="1547640"/>
                <a:ext cx="8084880" cy="1876680"/>
                <a:chOff x="611280" y="1547640"/>
                <a:chExt cx="8084880" cy="1876680"/>
              </a:xfrm>
            </p:grpSpPr>
            <p:grpSp>
              <p:nvGrpSpPr>
                <p:cNvPr id="306" name="组合 9"/>
                <p:cNvGrpSpPr/>
                <p:nvPr/>
              </p:nvGrpSpPr>
              <p:grpSpPr>
                <a:xfrm>
                  <a:off x="611280" y="1547640"/>
                  <a:ext cx="8084880" cy="1876680"/>
                  <a:chOff x="611280" y="1547640"/>
                  <a:chExt cx="8084880" cy="1876680"/>
                </a:xfrm>
              </p:grpSpPr>
              <p:grpSp>
                <p:nvGrpSpPr>
                  <p:cNvPr id="307" name="组合 11"/>
                  <p:cNvGrpSpPr/>
                  <p:nvPr/>
                </p:nvGrpSpPr>
                <p:grpSpPr>
                  <a:xfrm>
                    <a:off x="611280" y="1547640"/>
                    <a:ext cx="5832360" cy="1876680"/>
                    <a:chOff x="611280" y="1547640"/>
                    <a:chExt cx="5832360" cy="1876680"/>
                  </a:xfrm>
                </p:grpSpPr>
                <p:sp>
                  <p:nvSpPr>
                    <p:cNvPr id="308" name="Text Box 7"/>
                    <p:cNvSpPr/>
                    <p:nvPr/>
                  </p:nvSpPr>
                  <p:spPr>
                    <a:xfrm>
                      <a:off x="1619280" y="1547640"/>
                      <a:ext cx="2057400" cy="1169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反射性兴奋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交感神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09" name="组合 15"/>
                    <p:cNvGrpSpPr/>
                    <p:nvPr/>
                  </p:nvGrpSpPr>
                  <p:grpSpPr>
                    <a:xfrm>
                      <a:off x="611280" y="2095200"/>
                      <a:ext cx="5832360" cy="1329120"/>
                      <a:chOff x="611280" y="2095200"/>
                      <a:chExt cx="5832360" cy="1329120"/>
                    </a:xfrm>
                  </p:grpSpPr>
                  <p:grpSp>
                    <p:nvGrpSpPr>
                      <p:cNvPr id="310" name="组合 16"/>
                      <p:cNvGrpSpPr/>
                      <p:nvPr/>
                    </p:nvGrpSpPr>
                    <p:grpSpPr>
                      <a:xfrm>
                        <a:off x="611280" y="2844720"/>
                        <a:ext cx="5832360" cy="579600"/>
                        <a:chOff x="611280" y="2844720"/>
                        <a:chExt cx="5832360" cy="579600"/>
                      </a:xfrm>
                    </p:grpSpPr>
                    <p:sp>
                      <p:nvSpPr>
                        <p:cNvPr id="311" name="Text Box 8"/>
                        <p:cNvSpPr/>
                        <p:nvPr/>
                      </p:nvSpPr>
                      <p:spPr>
                        <a:xfrm>
                          <a:off x="611280" y="2844720"/>
                          <a:ext cx="4572000" cy="5796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749"/>
                            </a:spcBef>
                            <a:buClr>
                              <a:srgbClr val="ffff00"/>
                            </a:buClr>
                            <a:buFont typeface="宋体"/>
                            <a:buChar char="•"/>
                            <a:tabLst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宋体"/>
                              <a:ea typeface="宋体"/>
                            </a:rPr>
                            <a:t>阻断突触前膜的</a:t>
                          </a:r>
                          <a:r>
                            <a:rPr b="1" lang="en-US" sz="2800" spc="-1" strike="noStrike">
                              <a:solidFill>
                                <a:srgbClr val="000000"/>
                              </a:solidFill>
                              <a:latin typeface="宋体"/>
                              <a:ea typeface="宋体"/>
                            </a:rPr>
                            <a:t>α</a:t>
                          </a:r>
                          <a:r>
                            <a:rPr b="1" lang="en-US" sz="2800" spc="-1" strike="noStrike" baseline="-25000">
                              <a:solidFill>
                                <a:srgbClr val="000000"/>
                              </a:solidFill>
                              <a:latin typeface="宋体"/>
                              <a:ea typeface="宋体"/>
                            </a:rPr>
                            <a:t>2</a:t>
                          </a: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宋体"/>
                              <a:ea typeface="宋体"/>
                            </a:rPr>
                            <a:t>受体</a:t>
                          </a:r>
                          <a:endParaRPr b="0" lang="en-US" sz="2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2" name="Line 9"/>
                        <p:cNvSpPr/>
                        <p:nvPr/>
                      </p:nvSpPr>
                      <p:spPr>
                        <a:xfrm>
                          <a:off x="5148360" y="3203640"/>
                          <a:ext cx="1295280" cy="0"/>
                        </a:xfrm>
                        <a:prstGeom prst="line">
                          <a:avLst/>
                        </a:prstGeom>
                        <a:ln cap="sq" w="28440">
                          <a:solidFill>
                            <a:srgbClr val="000000"/>
                          </a:solidFill>
                          <a:miter/>
                          <a:tailEnd len="sm" type="triangle" w="sm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313" name="Line 12"/>
                      <p:cNvSpPr/>
                      <p:nvPr/>
                    </p:nvSpPr>
                    <p:spPr>
                      <a:xfrm>
                        <a:off x="6443640" y="2095200"/>
                        <a:ext cx="0" cy="1108440"/>
                      </a:xfrm>
                      <a:prstGeom prst="line">
                        <a:avLst/>
                      </a:prstGeom>
                      <a:ln cap="sq"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314" name="Line 13"/>
                  <p:cNvSpPr/>
                  <p:nvPr/>
                </p:nvSpPr>
                <p:spPr>
                  <a:xfrm>
                    <a:off x="6659640" y="2627280"/>
                    <a:ext cx="228600" cy="0"/>
                  </a:xfrm>
                  <a:prstGeom prst="line">
                    <a:avLst/>
                  </a:prstGeom>
                  <a:ln cap="sq" w="2844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Text Box 14"/>
                  <p:cNvSpPr/>
                  <p:nvPr/>
                </p:nvSpPr>
                <p:spPr>
                  <a:xfrm>
                    <a:off x="7020000" y="2268360"/>
                    <a:ext cx="1676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NA</a:t>
                    </a:r>
                    <a:r>
                      <a:rPr b="1" lang="zh-CN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释放</a:t>
                    </a:r>
                    <a:endParaRPr b="0" lang="en-US" sz="2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6" name="Line 15"/>
                <p:cNvSpPr/>
                <p:nvPr/>
              </p:nvSpPr>
              <p:spPr>
                <a:xfrm flipV="1">
                  <a:off x="8388000" y="2301480"/>
                  <a:ext cx="0" cy="45720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7" name="Line 18"/>
              <p:cNvSpPr/>
              <p:nvPr/>
            </p:nvSpPr>
            <p:spPr>
              <a:xfrm>
                <a:off x="7236000" y="2844720"/>
                <a:ext cx="0" cy="8384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318" name="Line 6"/>
          <p:cNvSpPr/>
          <p:nvPr/>
        </p:nvSpPr>
        <p:spPr>
          <a:xfrm>
            <a:off x="1490760" y="2095560"/>
            <a:ext cx="495288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603360" y="1717560"/>
            <a:ext cx="15238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p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Line 5"/>
          <p:cNvSpPr/>
          <p:nvPr/>
        </p:nvSpPr>
        <p:spPr>
          <a:xfrm>
            <a:off x="1365120" y="1798560"/>
            <a:ext cx="0" cy="38124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Text Box 22"/>
          <p:cNvSpPr/>
          <p:nvPr/>
        </p:nvSpPr>
        <p:spPr>
          <a:xfrm>
            <a:off x="2617920" y="4941720"/>
            <a:ext cx="5060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率加快、心肌收缩力增强、心输出量增加、传导加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Line 21"/>
          <p:cNvSpPr/>
          <p:nvPr/>
        </p:nvSpPr>
        <p:spPr>
          <a:xfrm flipH="1">
            <a:off x="5544720" y="4175280"/>
            <a:ext cx="609480" cy="68580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55640" y="1557360"/>
            <a:ext cx="7772400" cy="343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其他作用</a:t>
            </a:r>
            <a:br>
              <a:rPr sz="3200"/>
            </a:b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拟胆碱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4267080" y="35226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胃肠道平滑肌蠕动增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Line 3"/>
          <p:cNvSpPr/>
          <p:nvPr/>
        </p:nvSpPr>
        <p:spPr>
          <a:xfrm>
            <a:off x="3767040" y="3838680"/>
            <a:ext cx="53352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8" name="组合 9"/>
          <p:cNvGrpSpPr/>
          <p:nvPr/>
        </p:nvGrpSpPr>
        <p:grpSpPr>
          <a:xfrm>
            <a:off x="1042920" y="4581360"/>
            <a:ext cx="7473960" cy="1216080"/>
            <a:chOff x="1042920" y="4581360"/>
            <a:chExt cx="7473960" cy="1216080"/>
          </a:xfrm>
        </p:grpSpPr>
        <p:sp>
          <p:nvSpPr>
            <p:cNvPr id="329" name="Text Box 5"/>
            <p:cNvSpPr/>
            <p:nvPr/>
          </p:nvSpPr>
          <p:spPr>
            <a:xfrm>
              <a:off x="1042920" y="4797000"/>
              <a:ext cx="335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、拟组胺作用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30" name="组合 11"/>
            <p:cNvGrpSpPr/>
            <p:nvPr/>
          </p:nvGrpSpPr>
          <p:grpSpPr>
            <a:xfrm>
              <a:off x="3924360" y="4581360"/>
              <a:ext cx="4592520" cy="1216080"/>
              <a:chOff x="3924360" y="4581360"/>
              <a:chExt cx="4592520" cy="1216080"/>
            </a:xfrm>
          </p:grpSpPr>
          <p:sp>
            <p:nvSpPr>
              <p:cNvPr id="331" name="Line 6"/>
              <p:cNvSpPr/>
              <p:nvPr/>
            </p:nvSpPr>
            <p:spPr>
              <a:xfrm>
                <a:off x="3924360" y="5086080"/>
                <a:ext cx="6094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332" name="组合 13"/>
              <p:cNvGrpSpPr/>
              <p:nvPr/>
            </p:nvGrpSpPr>
            <p:grpSpPr>
              <a:xfrm>
                <a:off x="4788000" y="4581360"/>
                <a:ext cx="3728880" cy="1216080"/>
                <a:chOff x="4788000" y="4581360"/>
                <a:chExt cx="3728880" cy="1216080"/>
              </a:xfrm>
            </p:grpSpPr>
            <p:sp>
              <p:nvSpPr>
                <p:cNvPr id="333" name="Text Box 7"/>
                <p:cNvSpPr/>
                <p:nvPr/>
              </p:nvSpPr>
              <p:spPr>
                <a:xfrm>
                  <a:off x="4859280" y="4581360"/>
                  <a:ext cx="365760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胃酸的分泌增加；</a:t>
                  </a:r>
                  <a:endParaRPr b="0" lang="en-US" sz="3200" spc="-1" strike="noStrike">
                    <a:solidFill>
                      <a:srgbClr val="046ca6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皮肤潮红</a:t>
                  </a:r>
                  <a:endParaRPr b="0" lang="en-US" sz="32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34" name="Line 8"/>
                <p:cNvSpPr/>
                <p:nvPr/>
              </p:nvSpPr>
              <p:spPr>
                <a:xfrm>
                  <a:off x="4788000" y="4654080"/>
                  <a:ext cx="0" cy="114336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周血管痉挛性疾病，如肢端动脉痉挛性病（雷诺症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静脉滴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漏，拮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的血管收缩作用，防止局部组织缺血坏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酚妥拉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~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mg+10m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生理盐水浸润注射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0" name="Picture 3" descr="雷诺病1"/>
          <p:cNvPicPr/>
          <p:nvPr/>
        </p:nvPicPr>
        <p:blipFill>
          <a:blip r:embed="rId1"/>
          <a:stretch/>
        </p:blipFill>
        <p:spPr>
          <a:xfrm>
            <a:off x="684360" y="1916280"/>
            <a:ext cx="3900240" cy="2755800"/>
          </a:xfrm>
          <a:prstGeom prst="rect">
            <a:avLst/>
          </a:prstGeom>
          <a:ln w="76320">
            <a:solidFill>
              <a:srgbClr val="ff6600"/>
            </a:solidFill>
            <a:miter/>
          </a:ln>
        </p:spPr>
      </p:pic>
      <p:pic>
        <p:nvPicPr>
          <p:cNvPr id="341" name="Picture 3" descr="01300000243587122278669078727"/>
          <p:cNvPicPr/>
          <p:nvPr/>
        </p:nvPicPr>
        <p:blipFill>
          <a:blip r:embed="rId2"/>
          <a:stretch/>
        </p:blipFill>
        <p:spPr>
          <a:xfrm>
            <a:off x="4932360" y="1844640"/>
            <a:ext cx="3481560" cy="2808360"/>
          </a:xfrm>
          <a:prstGeom prst="rect">
            <a:avLst/>
          </a:prstGeom>
          <a:ln w="0">
            <a:noFill/>
          </a:ln>
        </p:spPr>
      </p:pic>
      <p:sp>
        <p:nvSpPr>
          <p:cNvPr id="342" name="矩形 6"/>
          <p:cNvSpPr/>
          <p:nvPr/>
        </p:nvSpPr>
        <p:spPr>
          <a:xfrm>
            <a:off x="4610160" y="5300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雷诺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"/>
          <p:cNvSpPr/>
          <p:nvPr/>
        </p:nvSpPr>
        <p:spPr>
          <a:xfrm>
            <a:off x="3039840" y="2054160"/>
            <a:ext cx="860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211200" y="2054160"/>
            <a:ext cx="860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902160" y="2651040"/>
            <a:ext cx="3420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endParaRPr b="0" lang="en-US" sz="2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3085560" y="3844800"/>
            <a:ext cx="2566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endParaRPr b="0" lang="en-US" sz="2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126"/>
          <p:cNvSpPr/>
          <p:nvPr/>
        </p:nvSpPr>
        <p:spPr>
          <a:xfrm>
            <a:off x="2038320" y="351000"/>
            <a:ext cx="694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拟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1492200" y="3298680"/>
            <a:ext cx="337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激动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6" name="组合 4"/>
          <p:cNvGrpSpPr/>
          <p:nvPr/>
        </p:nvGrpSpPr>
        <p:grpSpPr>
          <a:xfrm>
            <a:off x="69120" y="1820880"/>
            <a:ext cx="9535320" cy="4109040"/>
            <a:chOff x="69120" y="1820880"/>
            <a:chExt cx="9535320" cy="4109040"/>
          </a:xfrm>
        </p:grpSpPr>
        <p:grpSp>
          <p:nvGrpSpPr>
            <p:cNvPr id="127" name="组合 129"/>
            <p:cNvGrpSpPr/>
            <p:nvPr/>
          </p:nvGrpSpPr>
          <p:grpSpPr>
            <a:xfrm>
              <a:off x="69120" y="1820880"/>
              <a:ext cx="9535320" cy="3786840"/>
              <a:chOff x="69120" y="1820880"/>
              <a:chExt cx="9535320" cy="3786840"/>
            </a:xfrm>
          </p:grpSpPr>
          <p:sp>
            <p:nvSpPr>
              <p:cNvPr id="128" name="AutoShape 125"/>
              <p:cNvSpPr/>
              <p:nvPr/>
            </p:nvSpPr>
            <p:spPr>
              <a:xfrm>
                <a:off x="1139400" y="2113560"/>
                <a:ext cx="382680" cy="3494160"/>
              </a:xfrm>
              <a:custGeom>
                <a:avLst/>
                <a:gdLst>
                  <a:gd name="textAreaLeft" fmla="*/ 244440 w 382680"/>
                  <a:gd name="textAreaRight" fmla="*/ 383040 w 382680"/>
                  <a:gd name="textAreaTop" fmla="*/ 93960 h 3494160"/>
                  <a:gd name="textAreaBottom" fmla="*/ 3400200 h 3494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30"/>
                      <a:pt x="10800" y="1859"/>
                    </a:cubicBezTo>
                    <a:lnTo>
                      <a:pt x="10800" y="8941"/>
                    </a:lnTo>
                    <a:cubicBezTo>
                      <a:pt x="10800" y="9871"/>
                      <a:pt x="5400" y="10800"/>
                      <a:pt x="0" y="10800"/>
                    </a:cubicBezTo>
                    <a:cubicBezTo>
                      <a:pt x="5400" y="10800"/>
                      <a:pt x="10800" y="11730"/>
                      <a:pt x="10800" y="12659"/>
                    </a:cubicBezTo>
                    <a:lnTo>
                      <a:pt x="10800" y="19741"/>
                    </a:lnTo>
                    <a:cubicBezTo>
                      <a:pt x="10800" y="20671"/>
                      <a:pt x="16200" y="21600"/>
                      <a:pt x="21600" y="21600"/>
                    </a:cubicBezTo>
                  </a:path>
                </a:pathLst>
              </a:custGeom>
              <a:noFill/>
              <a:ln w="47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29" name="组合 131"/>
              <p:cNvGrpSpPr/>
              <p:nvPr/>
            </p:nvGrpSpPr>
            <p:grpSpPr>
              <a:xfrm>
                <a:off x="69120" y="1820880"/>
                <a:ext cx="9535320" cy="3524760"/>
                <a:chOff x="69120" y="1820880"/>
                <a:chExt cx="9535320" cy="3524760"/>
              </a:xfrm>
            </p:grpSpPr>
            <p:grpSp>
              <p:nvGrpSpPr>
                <p:cNvPr id="130" name="组合 132"/>
                <p:cNvGrpSpPr/>
                <p:nvPr/>
              </p:nvGrpSpPr>
              <p:grpSpPr>
                <a:xfrm>
                  <a:off x="1276560" y="1820880"/>
                  <a:ext cx="8327880" cy="3524760"/>
                  <a:chOff x="1276560" y="1820880"/>
                  <a:chExt cx="8327880" cy="3524760"/>
                </a:xfrm>
              </p:grpSpPr>
              <p:grpSp>
                <p:nvGrpSpPr>
                  <p:cNvPr id="131" name="Group 18"/>
                  <p:cNvGrpSpPr/>
                  <p:nvPr/>
                </p:nvGrpSpPr>
                <p:grpSpPr>
                  <a:xfrm>
                    <a:off x="1276560" y="3596040"/>
                    <a:ext cx="7750080" cy="1749600"/>
                    <a:chOff x="1276560" y="3596040"/>
                    <a:chExt cx="7750080" cy="1749600"/>
                  </a:xfrm>
                </p:grpSpPr>
                <p:sp>
                  <p:nvSpPr>
                    <p:cNvPr id="132" name="Text Box 6"/>
                    <p:cNvSpPr/>
                    <p:nvPr/>
                  </p:nvSpPr>
                  <p:spPr>
                    <a:xfrm>
                      <a:off x="4106160" y="3596040"/>
                      <a:ext cx="4920480" cy="1169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心脏兴奋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支气管扩张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骨骼肌血管扩张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33" name="Group 17"/>
                    <p:cNvGrpSpPr/>
                    <p:nvPr/>
                  </p:nvGrpSpPr>
                  <p:grpSpPr>
                    <a:xfrm>
                      <a:off x="1276560" y="3596040"/>
                      <a:ext cx="3625200" cy="1749600"/>
                      <a:chOff x="1276560" y="3596040"/>
                      <a:chExt cx="3625200" cy="1749600"/>
                    </a:xfrm>
                  </p:grpSpPr>
                  <p:grpSp>
                    <p:nvGrpSpPr>
                      <p:cNvPr id="134" name="Group 16"/>
                      <p:cNvGrpSpPr/>
                      <p:nvPr/>
                    </p:nvGrpSpPr>
                    <p:grpSpPr>
                      <a:xfrm>
                        <a:off x="3251160" y="3596040"/>
                        <a:ext cx="1650600" cy="1749600"/>
                        <a:chOff x="3251160" y="3596040"/>
                        <a:chExt cx="1650600" cy="1749600"/>
                      </a:xfrm>
                    </p:grpSpPr>
                    <p:sp>
                      <p:nvSpPr>
                        <p:cNvPr id="135" name="AutoShape 8"/>
                        <p:cNvSpPr/>
                        <p:nvPr/>
                      </p:nvSpPr>
                      <p:spPr>
                        <a:xfrm>
                          <a:off x="3255480" y="3854520"/>
                          <a:ext cx="43200" cy="1491120"/>
                        </a:xfrm>
                        <a:custGeom>
                          <a:avLst/>
                          <a:gdLst>
                            <a:gd name="textAreaLeft" fmla="*/ 12600 w 43200"/>
                            <a:gd name="textAreaRight" fmla="*/ 43560 w 43200"/>
                            <a:gd name="textAreaTop" fmla="*/ 27720 h 1491120"/>
                            <a:gd name="textAreaBottom" fmla="*/ 1463400 h 149112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21600" y="0"/>
                              </a:moveTo>
                              <a:cubicBezTo>
                                <a:pt x="10800" y="0"/>
                                <a:pt x="0" y="405"/>
                                <a:pt x="0" y="810"/>
                              </a:cubicBezTo>
                              <a:lnTo>
                                <a:pt x="0" y="20790"/>
                              </a:lnTo>
                              <a:cubicBezTo>
                                <a:pt x="0" y="21195"/>
                                <a:pt x="10800" y="21600"/>
                                <a:pt x="21600" y="21600"/>
                              </a:cubicBezTo>
                            </a:path>
                          </a:pathLst>
                        </a:custGeom>
                        <a:noFill/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6" name="Text Box 9"/>
                        <p:cNvSpPr/>
                        <p:nvPr/>
                      </p:nvSpPr>
                      <p:spPr>
                        <a:xfrm>
                          <a:off x="3251160" y="3596040"/>
                          <a:ext cx="1650600" cy="13050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749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Symbol"/>
                              <a:ea typeface="Symbol"/>
                            </a:rPr>
                            <a:t></a:t>
                          </a: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 </a:t>
                          </a:r>
                          <a:r>
                            <a:rPr b="0" lang="en-US" sz="2800" spc="-1" strike="noStrike" baseline="-25000">
                              <a:solidFill>
                                <a:srgbClr val="000000"/>
                              </a:solidFill>
                              <a:latin typeface="Arial"/>
                            </a:rPr>
                            <a:t>1</a:t>
                          </a:r>
                          <a:r>
                            <a: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-R:</a:t>
                          </a:r>
                          <a:endParaRPr b="0" lang="en-US" sz="2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749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Symbol"/>
                              <a:ea typeface="Symbol"/>
                            </a:rPr>
                            <a:t></a:t>
                          </a: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 </a:t>
                          </a:r>
                          <a:r>
                            <a:rPr b="1" lang="en-US" sz="2800" spc="-1" strike="noStrike" baseline="-30000">
                              <a:solidFill>
                                <a:srgbClr val="000000"/>
                              </a:solidFill>
                              <a:latin typeface="Arial"/>
                            </a:rPr>
                            <a:t>2</a:t>
                          </a:r>
                          <a:r>
                            <a: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-R:</a:t>
                          </a:r>
                          <a:endParaRPr b="0" lang="en-US" sz="2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37" name="Text Box 10"/>
                      <p:cNvSpPr/>
                      <p:nvPr/>
                    </p:nvSpPr>
                    <p:spPr>
                      <a:xfrm>
                        <a:off x="1276560" y="4108320"/>
                        <a:ext cx="200808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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-R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激动药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    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38" name="组合 137"/>
                  <p:cNvGrpSpPr/>
                  <p:nvPr/>
                </p:nvGrpSpPr>
                <p:grpSpPr>
                  <a:xfrm>
                    <a:off x="1364760" y="1820880"/>
                    <a:ext cx="8239680" cy="1298160"/>
                    <a:chOff x="1364760" y="1820880"/>
                    <a:chExt cx="8239680" cy="1298160"/>
                  </a:xfrm>
                </p:grpSpPr>
                <p:grpSp>
                  <p:nvGrpSpPr>
                    <p:cNvPr id="139" name="组合 138"/>
                    <p:cNvGrpSpPr/>
                    <p:nvPr/>
                  </p:nvGrpSpPr>
                  <p:grpSpPr>
                    <a:xfrm>
                      <a:off x="3219120" y="1820880"/>
                      <a:ext cx="6385320" cy="1298160"/>
                      <a:chOff x="3219120" y="1820880"/>
                      <a:chExt cx="6385320" cy="1298160"/>
                    </a:xfrm>
                  </p:grpSpPr>
                  <p:sp>
                    <p:nvSpPr>
                      <p:cNvPr id="140" name="Text Box 3"/>
                      <p:cNvSpPr/>
                      <p:nvPr/>
                    </p:nvSpPr>
                    <p:spPr>
                      <a:xfrm>
                        <a:off x="3219120" y="1820880"/>
                        <a:ext cx="6385320" cy="1287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1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-R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：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宋体"/>
                            <a:ea typeface="宋体"/>
                          </a:rPr>
                          <a:t>血管收缩、瞳孔扩大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2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-R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宋体"/>
                            <a:ea typeface="宋体"/>
                          </a:rPr>
                          <a:t>：抑制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NA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释放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1" name="AutoShape 5"/>
                      <p:cNvSpPr/>
                      <p:nvPr/>
                    </p:nvSpPr>
                    <p:spPr>
                      <a:xfrm>
                        <a:off x="3352320" y="1909080"/>
                        <a:ext cx="75960" cy="1209960"/>
                      </a:xfrm>
                      <a:custGeom>
                        <a:avLst/>
                        <a:gdLst>
                          <a:gd name="textAreaLeft" fmla="*/ 22320 w 75960"/>
                          <a:gd name="textAreaRight" fmla="*/ 76320 w 75960"/>
                          <a:gd name="textAreaTop" fmla="*/ 102600 h 1209960"/>
                          <a:gd name="textAreaBottom" fmla="*/ 1107360 h 120996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0800" y="0"/>
                              <a:pt x="0" y="1833"/>
                              <a:pt x="0" y="3666"/>
                            </a:cubicBezTo>
                            <a:lnTo>
                              <a:pt x="0" y="17934"/>
                            </a:lnTo>
                            <a:cubicBezTo>
                              <a:pt x="0" y="19767"/>
                              <a:pt x="10800" y="21600"/>
                              <a:pt x="21600" y="21600"/>
                            </a:cubicBezTo>
                          </a:path>
                        </a:pathLst>
                      </a:custGeom>
                      <a:noFill/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42" name="Text Box 10"/>
                    <p:cNvSpPr/>
                    <p:nvPr/>
                  </p:nvSpPr>
                  <p:spPr>
                    <a:xfrm>
                      <a:off x="1364760" y="2155680"/>
                      <a:ext cx="204804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R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激动药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43" name="TextBox 133"/>
                <p:cNvSpPr/>
                <p:nvPr/>
              </p:nvSpPr>
              <p:spPr>
                <a:xfrm>
                  <a:off x="69120" y="2679480"/>
                  <a:ext cx="1033560" cy="241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拟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肾上腺素药</a:t>
                  </a:r>
                  <a:endParaRPr b="0" lang="en-US" sz="2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" name="组合 1"/>
            <p:cNvGrpSpPr/>
            <p:nvPr/>
          </p:nvGrpSpPr>
          <p:grpSpPr>
            <a:xfrm>
              <a:off x="1566360" y="4886640"/>
              <a:ext cx="5593320" cy="1043280"/>
              <a:chOff x="1566360" y="4886640"/>
              <a:chExt cx="5593320" cy="1043280"/>
            </a:xfrm>
          </p:grpSpPr>
          <p:sp>
            <p:nvSpPr>
              <p:cNvPr id="145" name="Text Box 10"/>
              <p:cNvSpPr/>
              <p:nvPr/>
            </p:nvSpPr>
            <p:spPr>
              <a:xfrm>
                <a:off x="3179520" y="4886640"/>
                <a:ext cx="3980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突触前膜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: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促进递质释放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    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6" name="Text Box 10"/>
              <p:cNvSpPr/>
              <p:nvPr/>
            </p:nvSpPr>
            <p:spPr>
              <a:xfrm>
                <a:off x="1566360" y="5409360"/>
                <a:ext cx="3980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促进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NA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释放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    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适用于感染性、出血性和心源性休克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机制：扩张血管，降低外周阻力，增加血液灌注，改善微循环；增加心输出量，降低肺循环阻力，防止肺水肿发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药前必需补足血容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合用目的是阻断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受体，保留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受体作用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684000" y="1412640"/>
            <a:ext cx="793908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顽固性充血性心力衰竭和急性心肌梗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　机制：扩张血管→外周阻力↓→心脏后负荷↓心输出量↑心肌氧耗↓心力衰竭↓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嗜铬细胞瘤的诊断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　嗜铬细胞瘤的主要症状是持续高血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肾上腺嗜铬细胞含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AD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，酚妥拉明可使血压下降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不良反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611280" y="1773000"/>
            <a:ext cx="7920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位性低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胃肠平滑肌兴奋引起腹痛，腹泻，呕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诱发和加重溃疡，拟胆碱作用，胃酸分泌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动过速，心率失常，诱发和加重心绞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冠心病、溃疡病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539640" y="1557000"/>
            <a:ext cx="8353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旦发生体位性低血压应平卧，采用头低足高位，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升血压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酚妥拉明和妥拉唑林有拟胆碱作用，可引起腹痛、腹泻、胃酸增多、呕吐等症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药前及用药过程中监测血压脉搏变化，注射给药偶引起心动过速、诱发心绞痛等。调整滴速及用量，以免中毒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21840" y="1700280"/>
            <a:ext cx="78440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心血管系统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脏：心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收缩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传导均↓→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管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-)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管收缩（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，骨骼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肌，冠状血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流量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上述作用其决于交感神经张力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对正常人血压影响不明显，对高血压患者具有降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Rectangle 3"/>
          <p:cNvSpPr/>
          <p:nvPr/>
        </p:nvSpPr>
        <p:spPr>
          <a:xfrm>
            <a:off x="7488360" y="2637000"/>
            <a:ext cx="1322280" cy="477720"/>
          </a:xfrm>
          <a:prstGeom prst="rect">
            <a:avLst/>
          </a:prstGeom>
          <a:noFill/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P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耗氧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04920" y="1371600"/>
            <a:ext cx="80121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支气管平滑肌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阻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2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→增加支气管阻力→ 加重哮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3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谢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①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尿病：抑制糖原分解，掩盖胰岛素引起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低血糖反应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②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甲亢：↓对儿茶酚胺的敏感性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4 →T3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4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素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阻断肾小球旁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肾素释放→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TⅡ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→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P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900000" y="1483920"/>
            <a:ext cx="7578720" cy="47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在拟交感活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具有微弱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激动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膜稳定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些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在高浓度时能降低细胞膜对离子的通透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它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血小板聚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降低眼内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临床用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心律失常：治疗室上性心动过速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房颤、房扑、窦性心动过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高血压：治疗高血压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心绞痛和心肌梗死：治疗心绞痛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甲亢：治疗甲状腺机能亢进，控制心悸、心律失常、激动不安等现象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衰早期 ，充血性心力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：偏头痛；肌震颤；青光眼（噻吗洛尔）、             肝硬化引起的上消化道出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不良反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899640" y="1989000"/>
            <a:ext cx="736452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反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消化道反应、皮疹、血小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减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反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重房室传导阻滞，引起心动过缓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诱发或加剧支气管哮喘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反跳现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39280" y="1628640"/>
            <a:ext cx="7993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类药物中有些药物个体差异大，除按医嘱从小剂量开始给药外，心率不能低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，心率过低及时向医生报告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给药前观察患者有无过敏、哮喘及心衰，用药期间密切观察患者各种不良反应；本类药物多通过肝肾消除，定期查肝肾功能及追踪血糖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长期用药患者不能突然停药，应在两周内逐渐减量，以免诱发心绞痛、血压骤升、烦躁等停药反应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α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激动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826920" y="1628640"/>
            <a:ext cx="7417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口服：大部分被肠液破坏，吸收后在肠黏膜、肝内破坏，故口服达不到有效血药浓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下注射：因局部血管收缩而吸收慢，维持时间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左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肌内注射：吸收快，维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1280" y="1700280"/>
            <a:ext cx="7632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使用本类药物的糖尿病患者，本类药物可掩盖低血糖休克所引起的心动过速、出汗等症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两周内曾使用过单胺氧化酶抑制剂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的患者，考虑是否可使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本药期间，如同时服用作用于心脏、呼吸、血压、血糖的药物，要注意药物彼此间的相互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禁忌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33160" y="1700280"/>
            <a:ext cx="641484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室心功能不全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窦性心动过缓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度房室传导阻滞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支气管哮喘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肝功能不良等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萘洛尔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propranolol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84360" y="1699920"/>
            <a:ext cx="743400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口服吸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％，但生物利用度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首关消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％，血药浓度个体差异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肝药酶有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血浆蛋白结合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床用药应从小剂量开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萘洛尔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85800" y="1412640"/>
            <a:ext cx="729144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绞痛：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对冠心病心绞痛具有良好的疗效，使心绞痛发作减少和运动耐力改善。早期应用普萘洛尔等可降低心肌梗塞后的复发和猝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注意：不可突然停药；变异型心绞痛不宜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律失常：快速型心律失常（窦速、房颤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高血压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304920" y="1628640"/>
            <a:ext cx="8610480" cy="2880000"/>
          </a:xfrm>
          <a:prstGeom prst="wedgeRoundRectCallout">
            <a:avLst>
              <a:gd name="adj1" fmla="val -26532"/>
              <a:gd name="adj2" fmla="val 54134"/>
              <a:gd name="adj3" fmla="val 16667"/>
            </a:avLst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宋体"/>
              </a:rPr>
              <a:t>机制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、阻滞心脏的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66006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受体，使心输出量减少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、阻滞肾小球旁器的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β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受体，使肾素的释放减少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、阻滞中枢的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β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受体，产生中枢性降压作用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、阻滞突触前膜的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β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受体，使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NA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释放减少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826920" y="5229360"/>
            <a:ext cx="61185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：甲亢、偏头痛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选择性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β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258560" y="1989000"/>
            <a:ext cx="67690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阿替洛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atenolol)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美托洛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metoprolol)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性阻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，无内在活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呼吸系统抑制较轻，但对哮喘患者仍应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α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539280" y="1773360"/>
            <a:ext cx="741708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拉贝洛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点 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均有竞争性阻断作用，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作用比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减慢心率，减少心排出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应于各型高血压病的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吗洛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755640" y="1628280"/>
            <a:ext cx="729144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噻吗洛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噻吗心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的阻断作用比普萘洛尔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无膜稳定作用及内在拟交感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噻吗洛尔减少房水的生成，降低眼内压，常用于治疗青光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900000" y="1268280"/>
            <a:ext cx="78487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直接激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：兴奋心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用快、强，但明显增加心肌耗氧量，易引起心律失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收缩皮肤黏膜血管最明显、内脏血管（肾血管）次之；扩张骨骼肌血管；对脑和肺血管作用弱，有时由于血压升高而被动扩张；扩张冠状血管（激动冠状血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兴奋心脏，增加代谢产物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1042920" y="1617840"/>
            <a:ext cx="7201080" cy="43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血压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小剂量：收缩压升高（心脏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兴奋），舒张压不变或稍下降；较大剂量：收缩压和舒张压均升高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注意：在低浓度时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β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对肾上腺素的敏感性高于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α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；高浓度时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α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对肾上腺素敏感性高于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β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代谢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代谢增强，耗氧量增加，肝糖原分解增加，血糖升高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1042920" y="1617840"/>
            <a:ext cx="7201080" cy="43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平滑肌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）支气管：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A.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强大的舒张作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B.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收缩支气管黏膜血管，降低毛细血管通透性，有利于消除支气管黏膜水肿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C.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抑制肥大细胞释放组胺等过敏物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）胃肠平滑肌张力降低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）膀胱逼尿肌舒张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）；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膀胱括约肌收缩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α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可引起排尿困难和尿潴留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1042920" y="1617840"/>
            <a:ext cx="7058160" cy="44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．中枢神经系统 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肾上腺素不易透过血脑屏障，治疗量时一般无明显中枢兴奋现象，大剂量时出现中枢兴奋症状，如激动、呕吐、肌强直，甚至惊厥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肾上腺素的升压作用翻转：若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先用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Symbol"/>
                <a:ea typeface="Symbol"/>
              </a:rPr>
              <a:t></a:t>
            </a:r>
            <a:r>
              <a:rPr b="1" lang="en-US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R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阻断药（如酚妥拉明）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后再用</a:t>
            </a:r>
            <a:r>
              <a:rPr b="1" lang="en-US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AD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，则出现血压不升反降的现象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。 发生机制： 因</a:t>
            </a:r>
            <a:r>
              <a:rPr b="1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R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阻断后→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不能激动</a:t>
            </a:r>
            <a:r>
              <a:rPr b="1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R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而只能激动</a:t>
            </a:r>
            <a:r>
              <a:rPr b="1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→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则骨骼肌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0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-R )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血管舒张→外周阻力↓→血压↓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10:15:44Z</dcterms:modified>
  <cp:revision>228</cp:revision>
  <dc:subject/>
  <dc:title>内科护理学</dc:title>
</cp:coreProperties>
</file>